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media/image10.gif" ContentType="image/gif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10018713" cy="6886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8323-1808-48CE-AA69-A9675F094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691D-5EBB-4244-B18C-2352AB681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D604-A4C8-42B6-A9E8-FE2CAF7EB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A7A0-927E-43B6-9ED6-A11A8A163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3E35D-2E7B-4A64-887E-642B88426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686DD-3943-4693-A45D-8E62EC134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AF986-3A89-4733-8158-348BAFDB9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D4AE4-FB29-4202-8EC6-C486FAC53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12BBA-B18A-48E8-9288-6F1CF902F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506EB-4128-4345-84C7-F7D1325E3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01A23-D894-4507-857C-57CE4CA91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5FA0-37E8-4C4E-B364-9E614FA65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11FBE-EE1A-4372-91E1-0730EEC0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4441B-E054-445F-8BA9-FB7AC0177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81BE9-084B-45A5-B83C-34B2FCBB6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8F7AB-CB1B-49A5-8916-2911B6A85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85506-4FCA-441B-BD3B-8A6B5ADB8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F388-DD31-499D-AD83-69437DC37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28DE-980F-47CE-B73C-5287B9DDA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670A-B790-446E-B6D4-CE1C2D9B7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D2D8-D112-4090-BD33-BE7FB35A3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258B-EE25-4275-B7E3-4D41658E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8A97-4FA1-4691-AD67-10DE44AC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06BD-7700-44F5-8B23-392C18DAE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5E58C-39CB-4405-B177-E308A763027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85996-7D03-4151-BD59-A702F55E56C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Город Остров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">
            <a:hlinkClick r:id="" action="ppaction://hlinkshowjump?jump=nextslide"/>
          </p:cNvPr>
          <p:cNvSpPr/>
          <p:nvPr/>
        </p:nvSpPr>
        <p:spPr>
          <a:xfrm>
            <a:off x="7667640" y="5950080"/>
            <a:ext cx="576360" cy="57456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21668" h="21600">
                <a:moveTo>
                  <a:pt x="0" y="0"/>
                </a:moveTo>
                <a:lnTo>
                  <a:pt x="21668" y="0"/>
                </a:lnTo>
                <a:lnTo>
                  <a:pt x="21668" y="21600"/>
                </a:lnTo>
                <a:lnTo>
                  <a:pt x="0" y="21600"/>
                </a:lnTo>
                <a:close/>
              </a:path>
              <a:path fill="lightenLess" w="21668" h="21600">
                <a:moveTo>
                  <a:pt x="0" y="0"/>
                </a:moveTo>
                <a:lnTo>
                  <a:pt x="21668" y="0"/>
                </a:lnTo>
                <a:lnTo>
                  <a:pt x="20268" y="1400"/>
                </a:lnTo>
                <a:lnTo>
                  <a:pt x="1400" y="1400"/>
                </a:lnTo>
                <a:close/>
              </a:path>
              <a:path fill="darken" w="21668" h="21600">
                <a:moveTo>
                  <a:pt x="21668" y="0"/>
                </a:moveTo>
                <a:lnTo>
                  <a:pt x="21668" y="21600"/>
                </a:lnTo>
                <a:lnTo>
                  <a:pt x="20268" y="20200"/>
                </a:lnTo>
                <a:lnTo>
                  <a:pt x="20268" y="1400"/>
                </a:lnTo>
                <a:close/>
              </a:path>
              <a:path fill="darkenLess" w="21668" h="21600">
                <a:moveTo>
                  <a:pt x="216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8" y="20200"/>
                </a:lnTo>
                <a:close/>
              </a:path>
              <a:path fill="lighten" w="216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8" h="21600">
                <a:moveTo>
                  <a:pt x="3827" y="3794"/>
                </a:moveTo>
                <a:lnTo>
                  <a:pt x="17840" y="10800"/>
                </a:lnTo>
                <a:lnTo>
                  <a:pt x="3827" y="17806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" action="ppaction://hlinkshowjump?jump=lastslide"/>
          </p:cNvPr>
          <p:cNvSpPr/>
          <p:nvPr/>
        </p:nvSpPr>
        <p:spPr>
          <a:xfrm>
            <a:off x="8388360" y="5950080"/>
            <a:ext cx="576360" cy="576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14306" y="10800"/>
                </a:moveTo>
                <a:lnTo>
                  <a:pt x="3800" y="17806"/>
                </a:lnTo>
                <a:lnTo>
                  <a:pt x="3800" y="3794"/>
                </a:lnTo>
                <a:close/>
              </a:path>
              <a:path fill="darken" w="21613" h="21600">
                <a:moveTo>
                  <a:pt x="16151" y="3794"/>
                </a:moveTo>
                <a:lnTo>
                  <a:pt x="16151" y="17806"/>
                </a:lnTo>
                <a:lnTo>
                  <a:pt x="17813" y="17806"/>
                </a:lnTo>
                <a:lnTo>
                  <a:pt x="17813" y="3794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2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В этом году городу 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Острову 665 ле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07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тровский район расположен в юго-западной части Псковской области. Его площадь составляет 2435,56 кв.км. Граничит с Псковским, Порховским, Новоржевским, Пушкиногорским, Красногородским, Пыталовским,  Палкинским районами. Численность населения – 39,7 тыс. человек,  в том числе городского – 28,3 тыс. (на 1 января 2002 года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дминистративный центр района  - город Остров. Он находится  в 55 км. от г. Пскова. Является  третьим в области по числу жителей и промышленной значимости. Своё название получил от островка, изначально занимаемого крепостью. Город имеет статус историческо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>
            <a:hlinkClick r:id="" action="ppaction://hlinkshowjump?jump=nextslide"/>
          </p:cNvPr>
          <p:cNvSpPr/>
          <p:nvPr/>
        </p:nvSpPr>
        <p:spPr>
          <a:xfrm>
            <a:off x="8388360" y="6093000"/>
            <a:ext cx="576360" cy="57456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21668" h="21600">
                <a:moveTo>
                  <a:pt x="0" y="0"/>
                </a:moveTo>
                <a:lnTo>
                  <a:pt x="21668" y="0"/>
                </a:lnTo>
                <a:lnTo>
                  <a:pt x="21668" y="21600"/>
                </a:lnTo>
                <a:lnTo>
                  <a:pt x="0" y="21600"/>
                </a:lnTo>
                <a:close/>
              </a:path>
              <a:path fill="lightenLess" w="21668" h="21600">
                <a:moveTo>
                  <a:pt x="0" y="0"/>
                </a:moveTo>
                <a:lnTo>
                  <a:pt x="21668" y="0"/>
                </a:lnTo>
                <a:lnTo>
                  <a:pt x="20268" y="1400"/>
                </a:lnTo>
                <a:lnTo>
                  <a:pt x="1400" y="1400"/>
                </a:lnTo>
                <a:close/>
              </a:path>
              <a:path fill="darken" w="21668" h="21600">
                <a:moveTo>
                  <a:pt x="21668" y="0"/>
                </a:moveTo>
                <a:lnTo>
                  <a:pt x="21668" y="21600"/>
                </a:lnTo>
                <a:lnTo>
                  <a:pt x="20268" y="20200"/>
                </a:lnTo>
                <a:lnTo>
                  <a:pt x="20268" y="1400"/>
                </a:lnTo>
                <a:close/>
              </a:path>
              <a:path fill="darkenLess" w="21668" h="21600">
                <a:moveTo>
                  <a:pt x="216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8" y="20200"/>
                </a:lnTo>
                <a:close/>
              </a:path>
              <a:path fill="lighten" w="216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8" h="21600">
                <a:moveTo>
                  <a:pt x="3827" y="3794"/>
                </a:moveTo>
                <a:lnTo>
                  <a:pt x="17840" y="10800"/>
                </a:lnTo>
                <a:lnTo>
                  <a:pt x="3827" y="17806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>
            <a:hlinkClick r:id="" action="ppaction://hlinkshowjump?jump=previousslide"/>
          </p:cNvPr>
          <p:cNvSpPr/>
          <p:nvPr/>
        </p:nvSpPr>
        <p:spPr>
          <a:xfrm>
            <a:off x="7740720" y="6093000"/>
            <a:ext cx="576360" cy="576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10800"/>
                </a:moveTo>
                <a:lnTo>
                  <a:pt x="17813" y="3794"/>
                </a:lnTo>
                <a:lnTo>
                  <a:pt x="17813" y="17806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5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5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5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7100"/>
                            </p:stCondLst>
                            <p:childTnLst>
                              <p:par>
                                <p:cTn id="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5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5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5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Цепной мост через реку Великую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392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дной из главных достопримеча-тельностей города Острова явля-ется уникальное сооружение - цепной мост через реку Великую. Мост состоит из двух отдельных пролетов, построенных через два рукава р. Великой. Величина каждого из пролетов 94 метра, со стрелой провеса цепей в 1\2 пролета. Открытие цепного моста, на котором присутствовал сам Николай I, состоялось в ноябре 1853 года. Создатель цепного моста - инженер путей сообщения Михаил Яковлевич Краснопольский - был удостоен ордена Святой Анны второй степен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003640" y="1484280"/>
            <a:ext cx="3824280" cy="5111640"/>
          </a:xfrm>
          <a:prstGeom prst="rect">
            <a:avLst/>
          </a:prstGeom>
          <a:ln w="0">
            <a:noFill/>
          </a:ln>
        </p:spPr>
      </p:pic>
      <p:sp>
        <p:nvSpPr>
          <p:cNvPr id="159" name="">
            <a:hlinkClick r:id="" action="ppaction://hlinkshowjump?jump=nextslide"/>
          </p:cNvPr>
          <p:cNvSpPr/>
          <p:nvPr/>
        </p:nvSpPr>
        <p:spPr>
          <a:xfrm>
            <a:off x="8388360" y="6093000"/>
            <a:ext cx="576360" cy="57456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21668" h="21600">
                <a:moveTo>
                  <a:pt x="0" y="0"/>
                </a:moveTo>
                <a:lnTo>
                  <a:pt x="21668" y="0"/>
                </a:lnTo>
                <a:lnTo>
                  <a:pt x="21668" y="21600"/>
                </a:lnTo>
                <a:lnTo>
                  <a:pt x="0" y="21600"/>
                </a:lnTo>
                <a:close/>
              </a:path>
              <a:path fill="lightenLess" w="21668" h="21600">
                <a:moveTo>
                  <a:pt x="0" y="0"/>
                </a:moveTo>
                <a:lnTo>
                  <a:pt x="21668" y="0"/>
                </a:lnTo>
                <a:lnTo>
                  <a:pt x="20268" y="1400"/>
                </a:lnTo>
                <a:lnTo>
                  <a:pt x="1400" y="1400"/>
                </a:lnTo>
                <a:close/>
              </a:path>
              <a:path fill="darken" w="21668" h="21600">
                <a:moveTo>
                  <a:pt x="21668" y="0"/>
                </a:moveTo>
                <a:lnTo>
                  <a:pt x="21668" y="21600"/>
                </a:lnTo>
                <a:lnTo>
                  <a:pt x="20268" y="20200"/>
                </a:lnTo>
                <a:lnTo>
                  <a:pt x="20268" y="1400"/>
                </a:lnTo>
                <a:close/>
              </a:path>
              <a:path fill="darkenLess" w="21668" h="21600">
                <a:moveTo>
                  <a:pt x="216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8" y="20200"/>
                </a:lnTo>
                <a:close/>
              </a:path>
              <a:path fill="lighten" w="216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8" h="21600">
                <a:moveTo>
                  <a:pt x="3827" y="3794"/>
                </a:moveTo>
                <a:lnTo>
                  <a:pt x="17840" y="10800"/>
                </a:lnTo>
                <a:lnTo>
                  <a:pt x="3827" y="17806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" action="ppaction://hlinkshowjump?jump=previousslide"/>
          </p:cNvPr>
          <p:cNvSpPr/>
          <p:nvPr/>
        </p:nvSpPr>
        <p:spPr>
          <a:xfrm>
            <a:off x="7740720" y="6093000"/>
            <a:ext cx="576360" cy="576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10800"/>
                </a:moveTo>
                <a:lnTo>
                  <a:pt x="17813" y="3794"/>
                </a:lnTo>
                <a:lnTo>
                  <a:pt x="17813" y="17806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5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5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5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330066"/>
                </a:solidFill>
                <a:latin typeface="Times New Roman"/>
              </a:rPr>
              <a:t>Троицкий собор</a:t>
            </a: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1640" y="1699920"/>
            <a:ext cx="4319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городе сохранился ряд памятников архитектуры XVIII и XIX веков. Созданные в различные периоды русской истории они отражают те черты, которые гос-подствовали в архитектуре того времени. Троицкий собор и Пок-ровская церковь стали завер-шающим аккордом в формиро-вании городского центра. В свое время они были самыми монумен-тальными сооружениями города. Троицкий собор был построен в 1790 году по велению Екатерины II. Его местоположение и размеры определялись ролью главного культового сооружения город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79520" y="2454120"/>
            <a:ext cx="3890880" cy="2854440"/>
          </a:xfrm>
          <a:prstGeom prst="rect">
            <a:avLst/>
          </a:prstGeom>
          <a:ln w="0">
            <a:noFill/>
          </a:ln>
        </p:spPr>
      </p:pic>
      <p:sp>
        <p:nvSpPr>
          <p:cNvPr id="164" name="">
            <a:hlinkClick r:id="" action="ppaction://hlinkshowjump?jump=nextslide"/>
          </p:cNvPr>
          <p:cNvSpPr/>
          <p:nvPr/>
        </p:nvSpPr>
        <p:spPr>
          <a:xfrm>
            <a:off x="898560" y="6093000"/>
            <a:ext cx="576360" cy="57456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21668" h="21600">
                <a:moveTo>
                  <a:pt x="0" y="0"/>
                </a:moveTo>
                <a:lnTo>
                  <a:pt x="21668" y="0"/>
                </a:lnTo>
                <a:lnTo>
                  <a:pt x="21668" y="21600"/>
                </a:lnTo>
                <a:lnTo>
                  <a:pt x="0" y="21600"/>
                </a:lnTo>
                <a:close/>
              </a:path>
              <a:path fill="lightenLess" w="21668" h="21600">
                <a:moveTo>
                  <a:pt x="0" y="0"/>
                </a:moveTo>
                <a:lnTo>
                  <a:pt x="21668" y="0"/>
                </a:lnTo>
                <a:lnTo>
                  <a:pt x="20268" y="1400"/>
                </a:lnTo>
                <a:lnTo>
                  <a:pt x="1400" y="1400"/>
                </a:lnTo>
                <a:close/>
              </a:path>
              <a:path fill="darken" w="21668" h="21600">
                <a:moveTo>
                  <a:pt x="21668" y="0"/>
                </a:moveTo>
                <a:lnTo>
                  <a:pt x="21668" y="21600"/>
                </a:lnTo>
                <a:lnTo>
                  <a:pt x="20268" y="20200"/>
                </a:lnTo>
                <a:lnTo>
                  <a:pt x="20268" y="1400"/>
                </a:lnTo>
                <a:close/>
              </a:path>
              <a:path fill="darkenLess" w="21668" h="21600">
                <a:moveTo>
                  <a:pt x="216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8" y="20200"/>
                </a:lnTo>
                <a:close/>
              </a:path>
              <a:path fill="lighten" w="216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8" h="21600">
                <a:moveTo>
                  <a:pt x="3827" y="3794"/>
                </a:moveTo>
                <a:lnTo>
                  <a:pt x="17840" y="10800"/>
                </a:lnTo>
                <a:lnTo>
                  <a:pt x="3827" y="17806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>
            <a:hlinkClick r:id="" action="ppaction://hlinkshowjump?jump=previousslide"/>
          </p:cNvPr>
          <p:cNvSpPr/>
          <p:nvPr/>
        </p:nvSpPr>
        <p:spPr>
          <a:xfrm>
            <a:off x="250920" y="6093000"/>
            <a:ext cx="576000" cy="57600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5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5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5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Times New Roman"/>
              </a:rPr>
              <a:t>Памятник Герою Советского Союза Клаве Назарово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40435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XX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век вписал в историю города Острова главы героизма и мужества островичей в годы Великой Отечественной войны. Уже 3 июля 1941 года война вошла в жизнь жителей Острова. На центральной площади города возвышается гранитная фигура Героя Советского Союза Клавы Назаровой - руководителя Островской подпольной комсо-мольской организации (работа скульптора Н.А.Страхова и архитектора В. А.Бубновского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427640" y="1773360"/>
            <a:ext cx="4498920" cy="4091040"/>
          </a:xfrm>
          <a:prstGeom prst="rect">
            <a:avLst/>
          </a:prstGeom>
          <a:ln w="0">
            <a:noFill/>
          </a:ln>
        </p:spPr>
      </p:pic>
      <p:sp>
        <p:nvSpPr>
          <p:cNvPr id="169" name="">
            <a:hlinkClick r:id="" action="ppaction://hlinkshowjump?jump=nextslide"/>
          </p:cNvPr>
          <p:cNvSpPr/>
          <p:nvPr/>
        </p:nvSpPr>
        <p:spPr>
          <a:xfrm>
            <a:off x="971640" y="6093000"/>
            <a:ext cx="576000" cy="57456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21654" h="21600">
                <a:moveTo>
                  <a:pt x="0" y="0"/>
                </a:moveTo>
                <a:lnTo>
                  <a:pt x="21654" y="0"/>
                </a:lnTo>
                <a:lnTo>
                  <a:pt x="21654" y="21600"/>
                </a:lnTo>
                <a:lnTo>
                  <a:pt x="0" y="21600"/>
                </a:lnTo>
                <a:close/>
              </a:path>
              <a:path fill="lightenLess" w="21654" h="21600">
                <a:moveTo>
                  <a:pt x="0" y="0"/>
                </a:moveTo>
                <a:lnTo>
                  <a:pt x="21654" y="0"/>
                </a:lnTo>
                <a:lnTo>
                  <a:pt x="20254" y="1400"/>
                </a:lnTo>
                <a:lnTo>
                  <a:pt x="1400" y="1400"/>
                </a:lnTo>
                <a:close/>
              </a:path>
              <a:path fill="darken" w="21654" h="21600">
                <a:moveTo>
                  <a:pt x="21654" y="0"/>
                </a:moveTo>
                <a:lnTo>
                  <a:pt x="21654" y="21600"/>
                </a:lnTo>
                <a:lnTo>
                  <a:pt x="20254" y="20200"/>
                </a:lnTo>
                <a:lnTo>
                  <a:pt x="20254" y="1400"/>
                </a:lnTo>
                <a:close/>
              </a:path>
              <a:path fill="darkenLess" w="21654" h="21600">
                <a:moveTo>
                  <a:pt x="216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4" y="20200"/>
                </a:lnTo>
                <a:close/>
              </a:path>
              <a:path fill="lighten" w="216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4" h="21600">
                <a:moveTo>
                  <a:pt x="3821" y="3794"/>
                </a:moveTo>
                <a:lnTo>
                  <a:pt x="17834" y="10800"/>
                </a:lnTo>
                <a:lnTo>
                  <a:pt x="3821" y="17806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>
            <a:hlinkClick r:id="" action="ppaction://hlinkshowjump?jump=previousslide"/>
          </p:cNvPr>
          <p:cNvSpPr/>
          <p:nvPr/>
        </p:nvSpPr>
        <p:spPr>
          <a:xfrm>
            <a:off x="324000" y="6093000"/>
            <a:ext cx="576000" cy="57600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5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5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5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Жизнь не стоит на мест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3816360" cy="27241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2771640" y="2421000"/>
            <a:ext cx="3816360" cy="29620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5435640" y="4076640"/>
            <a:ext cx="3456000" cy="24242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611280" y="5516640"/>
            <a:ext cx="468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осстанавливаются старые и строятся новые зда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" action="ppaction://hlinkshowjump?jump=nextslide"/>
          </p:cNvPr>
          <p:cNvSpPr/>
          <p:nvPr/>
        </p:nvSpPr>
        <p:spPr>
          <a:xfrm>
            <a:off x="8388360" y="6093000"/>
            <a:ext cx="576360" cy="57456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21668" h="21600">
                <a:moveTo>
                  <a:pt x="0" y="0"/>
                </a:moveTo>
                <a:lnTo>
                  <a:pt x="21668" y="0"/>
                </a:lnTo>
                <a:lnTo>
                  <a:pt x="21668" y="21600"/>
                </a:lnTo>
                <a:lnTo>
                  <a:pt x="0" y="21600"/>
                </a:lnTo>
                <a:close/>
              </a:path>
              <a:path fill="lightenLess" w="21668" h="21600">
                <a:moveTo>
                  <a:pt x="0" y="0"/>
                </a:moveTo>
                <a:lnTo>
                  <a:pt x="21668" y="0"/>
                </a:lnTo>
                <a:lnTo>
                  <a:pt x="20268" y="1400"/>
                </a:lnTo>
                <a:lnTo>
                  <a:pt x="1400" y="1400"/>
                </a:lnTo>
                <a:close/>
              </a:path>
              <a:path fill="darken" w="21668" h="21600">
                <a:moveTo>
                  <a:pt x="21668" y="0"/>
                </a:moveTo>
                <a:lnTo>
                  <a:pt x="21668" y="21600"/>
                </a:lnTo>
                <a:lnTo>
                  <a:pt x="20268" y="20200"/>
                </a:lnTo>
                <a:lnTo>
                  <a:pt x="20268" y="1400"/>
                </a:lnTo>
                <a:close/>
              </a:path>
              <a:path fill="darkenLess" w="21668" h="21600">
                <a:moveTo>
                  <a:pt x="216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8" y="20200"/>
                </a:lnTo>
                <a:close/>
              </a:path>
              <a:path fill="lighten" w="216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8" h="21600">
                <a:moveTo>
                  <a:pt x="3827" y="3794"/>
                </a:moveTo>
                <a:lnTo>
                  <a:pt x="17840" y="10800"/>
                </a:lnTo>
                <a:lnTo>
                  <a:pt x="3827" y="17806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>
            <a:hlinkClick r:id="" action="ppaction://hlinkshowjump?jump=previousslide"/>
          </p:cNvPr>
          <p:cNvSpPr/>
          <p:nvPr/>
        </p:nvSpPr>
        <p:spPr>
          <a:xfrm>
            <a:off x="7740720" y="6093000"/>
            <a:ext cx="576360" cy="576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10800"/>
                </a:moveTo>
                <a:lnTo>
                  <a:pt x="17813" y="3794"/>
                </a:lnTo>
                <a:lnTo>
                  <a:pt x="17813" y="17806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 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Муниципальное образование Островский район в цифрах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57200" y="1600200"/>
          <a:ext cx="7499520" cy="4525920"/>
        </p:xfrm>
        <a:graphic>
          <a:graphicData uri="http://schemas.openxmlformats.org/drawingml/2006/table">
            <a:tbl>
              <a:tblPr/>
              <a:tblGrid>
                <a:gridCol w="5554800"/>
                <a:gridCol w="1944720"/>
              </a:tblGrid>
              <a:tr h="424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лощадь Островского района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435 м.кв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Количество населенных пунктов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Численность населения на 1.01.2002г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9,7 тыс.чел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ротяженность дорог с твердым покрытием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83 км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из них сельхозугодий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11435 г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 том числе залежь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238 га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ашня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2617 га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сенокосы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1401 га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астбища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5179 га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лесной фонд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8609 г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">
            <a:hlinkClick r:id="" action="ppaction://hlinkshowjump?jump=nextslide"/>
          </p:cNvPr>
          <p:cNvSpPr/>
          <p:nvPr/>
        </p:nvSpPr>
        <p:spPr>
          <a:xfrm>
            <a:off x="8388360" y="6093000"/>
            <a:ext cx="576360" cy="57456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21668" h="21600">
                <a:moveTo>
                  <a:pt x="0" y="0"/>
                </a:moveTo>
                <a:lnTo>
                  <a:pt x="21668" y="0"/>
                </a:lnTo>
                <a:lnTo>
                  <a:pt x="21668" y="21600"/>
                </a:lnTo>
                <a:lnTo>
                  <a:pt x="0" y="21600"/>
                </a:lnTo>
                <a:close/>
              </a:path>
              <a:path fill="lightenLess" w="21668" h="21600">
                <a:moveTo>
                  <a:pt x="0" y="0"/>
                </a:moveTo>
                <a:lnTo>
                  <a:pt x="21668" y="0"/>
                </a:lnTo>
                <a:lnTo>
                  <a:pt x="20268" y="1400"/>
                </a:lnTo>
                <a:lnTo>
                  <a:pt x="1400" y="1400"/>
                </a:lnTo>
                <a:close/>
              </a:path>
              <a:path fill="darken" w="21668" h="21600">
                <a:moveTo>
                  <a:pt x="21668" y="0"/>
                </a:moveTo>
                <a:lnTo>
                  <a:pt x="21668" y="21600"/>
                </a:lnTo>
                <a:lnTo>
                  <a:pt x="20268" y="20200"/>
                </a:lnTo>
                <a:lnTo>
                  <a:pt x="20268" y="1400"/>
                </a:lnTo>
                <a:close/>
              </a:path>
              <a:path fill="darkenLess" w="21668" h="21600">
                <a:moveTo>
                  <a:pt x="216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8" y="20200"/>
                </a:lnTo>
                <a:close/>
              </a:path>
              <a:path fill="lighten" w="216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8" h="21600">
                <a:moveTo>
                  <a:pt x="3827" y="3794"/>
                </a:moveTo>
                <a:lnTo>
                  <a:pt x="17840" y="10800"/>
                </a:lnTo>
                <a:lnTo>
                  <a:pt x="3827" y="17806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>
            <a:hlinkClick r:id="" action="ppaction://hlinkshowjump?jump=previousslide"/>
          </p:cNvPr>
          <p:cNvSpPr/>
          <p:nvPr/>
        </p:nvSpPr>
        <p:spPr>
          <a:xfrm>
            <a:off x="7740720" y="6093000"/>
            <a:ext cx="576360" cy="576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10800"/>
                </a:moveTo>
                <a:lnTo>
                  <a:pt x="17813" y="3794"/>
                </a:lnTo>
                <a:lnTo>
                  <a:pt x="17813" y="17806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  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Сельское хозяйство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оздано 210 фермерских хозяйств, из них функционируют 65. Основные направления деятельности : молочное животноводство, овощеводство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63680" y="3997440"/>
          <a:ext cx="8216640" cy="213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3997440"/>
                    <a:ext cx="8216640" cy="21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>
            <a:hlinkClick r:id="" action="ppaction://hlinkshowjump?jump=nextslide"/>
          </p:cNvPr>
          <p:cNvSpPr/>
          <p:nvPr/>
        </p:nvSpPr>
        <p:spPr>
          <a:xfrm>
            <a:off x="8388360" y="6093000"/>
            <a:ext cx="576360" cy="57456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21668" h="21600">
                <a:moveTo>
                  <a:pt x="0" y="0"/>
                </a:moveTo>
                <a:lnTo>
                  <a:pt x="21668" y="0"/>
                </a:lnTo>
                <a:lnTo>
                  <a:pt x="21668" y="21600"/>
                </a:lnTo>
                <a:lnTo>
                  <a:pt x="0" y="21600"/>
                </a:lnTo>
                <a:close/>
              </a:path>
              <a:path fill="lightenLess" w="21668" h="21600">
                <a:moveTo>
                  <a:pt x="0" y="0"/>
                </a:moveTo>
                <a:lnTo>
                  <a:pt x="21668" y="0"/>
                </a:lnTo>
                <a:lnTo>
                  <a:pt x="20268" y="1400"/>
                </a:lnTo>
                <a:lnTo>
                  <a:pt x="1400" y="1400"/>
                </a:lnTo>
                <a:close/>
              </a:path>
              <a:path fill="darken" w="21668" h="21600">
                <a:moveTo>
                  <a:pt x="21668" y="0"/>
                </a:moveTo>
                <a:lnTo>
                  <a:pt x="21668" y="21600"/>
                </a:lnTo>
                <a:lnTo>
                  <a:pt x="20268" y="20200"/>
                </a:lnTo>
                <a:lnTo>
                  <a:pt x="20268" y="1400"/>
                </a:lnTo>
                <a:close/>
              </a:path>
              <a:path fill="darkenLess" w="21668" h="21600">
                <a:moveTo>
                  <a:pt x="216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8" y="20200"/>
                </a:lnTo>
                <a:close/>
              </a:path>
              <a:path fill="lighten" w="216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8" h="21600">
                <a:moveTo>
                  <a:pt x="3827" y="3794"/>
                </a:moveTo>
                <a:lnTo>
                  <a:pt x="17840" y="10800"/>
                </a:lnTo>
                <a:lnTo>
                  <a:pt x="3827" y="17806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>
            <a:hlinkClick r:id="" action="ppaction://hlinkshowjump?jump=previousslide"/>
          </p:cNvPr>
          <p:cNvSpPr/>
          <p:nvPr/>
        </p:nvSpPr>
        <p:spPr>
          <a:xfrm>
            <a:off x="7740720" y="6093000"/>
            <a:ext cx="576360" cy="576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10800"/>
                </a:moveTo>
                <a:lnTo>
                  <a:pt x="17813" y="3794"/>
                </a:lnTo>
                <a:lnTo>
                  <a:pt x="17813" y="17806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Добро пожаловать!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">
            <a:hlinkClick r:id="" action="ppaction://hlinkshowjump?jump=firstslide"/>
          </p:cNvPr>
          <p:cNvSpPr/>
          <p:nvPr/>
        </p:nvSpPr>
        <p:spPr>
          <a:xfrm>
            <a:off x="7667640" y="6021360"/>
            <a:ext cx="576360" cy="57636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>
            <a:hlinkClick r:id="" action="ppaction://hlinkshowjump?jump=previousslide"/>
          </p:cNvPr>
          <p:cNvSpPr/>
          <p:nvPr/>
        </p:nvSpPr>
        <p:spPr>
          <a:xfrm>
            <a:off x="8317080" y="6021360"/>
            <a:ext cx="576000" cy="57636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3794" y="10807"/>
                </a:moveTo>
                <a:lnTo>
                  <a:pt x="17806" y="3800"/>
                </a:lnTo>
                <a:lnTo>
                  <a:pt x="17806" y="17813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1276200" cy="9432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6588000" y="1700280"/>
            <a:ext cx="127656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5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5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6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1T10:10:57Z</dcterms:created>
  <dc:creator>777</dc:creator>
  <dc:description/>
  <dc:language>en-US</dc:language>
  <cp:lastModifiedBy>светлана</cp:lastModifiedBy>
  <dcterms:modified xsi:type="dcterms:W3CDTF">2008-01-31T10:58:14Z</dcterms:modified>
  <cp:revision>14</cp:revision>
  <dc:subject/>
  <dc:title>Слайд 1</dc:title>
</cp:coreProperties>
</file>